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772-F225-4B89-8D77-49004E9B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08D-4F32-4D5B-9CB5-DCAEC8C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851-7841-4620-9315-0C125D9F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1D2-7255-40CA-9C78-6A2E75B9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2BC0-A4D1-464E-9268-B1E6F650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BE31-5FAF-4DDE-B5EA-E971E73A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ACCB-9530-4B88-ACD1-C1DF644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D793-642F-4DAA-A7EC-04455E18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005E-29E3-4E9C-93C2-B0330DBF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8BB0-804F-4E65-9991-99E9A70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66C1-42F6-47B7-940A-C6468C94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503-8250-4212-B5CB-DE5D5234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7A47-8C51-46C5-8972-CBB52CC5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E778-516E-4650-9E58-245F9B56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761-612A-4FB2-AE06-68659840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C526-A8C3-4808-BD9B-7C476226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88AD-0C76-414E-B8C9-1254BDD1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54B-219B-4577-947F-A0C1371F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A5B-768F-43F2-9E91-DA80042A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3B4-2A5C-4E09-90DC-48D9450F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976-0537-40DB-A9E5-D47D8E7D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7C7-4B5B-4A1C-AB22-7892A18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96B-7AD6-4ED7-8C3A-D6A98185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24D-FA7C-480B-BB54-1D43EDF6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C7C-6FB8-42A8-96F2-FA872F5C6EE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C518-6A63-434D-B191-6D139213CC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95280" y="1852560"/>
            <a:ext cx="2808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26920" y="3573000"/>
            <a:ext cx="47847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Ly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259056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Jai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tch bad people that do a bad thing then they get sent to jail and they learn how to b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57578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use lots of weapons to catch criminals… taser gun, pepper spray and a pocket knif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26920" y="5589720"/>
            <a:ext cx="3564000" cy="1268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3887640" cy="1557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2195640" y="278136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20876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CLOTH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VE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JUMP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S.R.B.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have different clothes all over the worl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286680" y="1125360"/>
            <a:ext cx="285732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VEHICLES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re are different kinds of police  vehic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 colours for a police car  is blue and white and red black and orang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 rot="337200">
            <a:off x="6191280" y="4868640"/>
            <a:ext cx="2952720" cy="17780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 rot="20958000">
            <a:off x="4284720" y="4076280"/>
            <a:ext cx="2484360" cy="1393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2857680" cy="12477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1332000" y="5373720"/>
            <a:ext cx="1952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are here for us for saf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5185080" cy="1440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2771640" y="5568840"/>
            <a:ext cx="3713400" cy="12891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6622920" y="2492280"/>
            <a:ext cx="2521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0:02:37Z</dcterms:created>
  <dc:creator>5E07</dc:creator>
  <dc:description/>
  <dc:language>en-US</dc:language>
  <cp:lastModifiedBy>5E07</cp:lastModifiedBy>
  <dcterms:modified xsi:type="dcterms:W3CDTF">2011-09-19T02:03:18Z</dcterms:modified>
  <cp:revision>6</cp:revision>
  <dc:subject/>
  <dc:title>POLICE</dc:title>
</cp:coreProperties>
</file>